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258-AE3F-49D7-9660-CDFC24B6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0179-757C-4612-9A2A-15E91E26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8D8-13C6-4454-8A58-A4FDC32C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6AF-EA5E-443D-8327-51FB43E4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C2F3-7B14-4FEC-A1E3-7C316302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110-A917-456F-BE1D-DADA6A49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DA1-54D0-4376-A815-F1748F22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54D-389B-4331-BE67-00A404A5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05D-5E6C-41F4-84EA-D48BDA7D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5B1-3B3D-4E5F-B3BB-3360FD7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B51-EC31-47CC-816C-A3773C48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4BB-D916-4511-80DC-716CA51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A33B-B53A-4810-A46D-BC21897F7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2/AverroesColor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b/bc/Avicenna_Persian_Physician.jp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n.wikipedia.org/wiki/File:Old.Sorbonne.1670.before.fire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nges in Medieval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Paglia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ban Life Flouris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creased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se of towns-Settled around trade fairs ne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lords profit: taxes, tolls, r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rg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ters of lib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zards: fire, disea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own air makes you f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195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val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cal libraries in Byzantine Empire and Muslim Sp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ed Greek text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ilosophy (esp. Plato &amp; Aristot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jor influ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lim scholars Ibn Sina and Ibn Rush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nish rabbi, Moses Maimonid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File:AverroesCol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2895480"/>
            <a:ext cx="2590920" cy="203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e:Avicenna Persian Physici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21520" y="0"/>
            <a:ext cx="2022480" cy="2886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443720" y="4648320"/>
            <a:ext cx="170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dieval Univers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niversity: Bologna, Ita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Western Europe: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d Oxford &amp; Cambridge, which influenced 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-Formed guilds, determined curriculum, rented halls for members, usually arranged by natio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s-Regularly monks, Taught by lecture, usually in rented halls or chur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: Liberal 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grees: Bachelors, Masters, Doct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2016000"/>
            <a:ext cx="6248520" cy="4842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0" y="2514600"/>
            <a:ext cx="9144000" cy="4343400"/>
            <a:chOff x="0" y="2514600"/>
            <a:chExt cx="9144000" cy="4343400"/>
          </a:xfrm>
        </p:grpSpPr>
        <p:pic>
          <p:nvPicPr>
            <p:cNvPr id="76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2971800"/>
              <a:ext cx="5257800" cy="22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File:Oxsky.jpg"/>
            <p:cNvPicPr/>
            <p:nvPr/>
          </p:nvPicPr>
          <p:blipFill>
            <a:blip r:embed="rId4"/>
            <a:stretch/>
          </p:blipFill>
          <p:spPr>
            <a:xfrm>
              <a:off x="5105520" y="2514600"/>
              <a:ext cx="4038480" cy="30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File:Cam colls from johns.jpg"/>
            <p:cNvPicPr/>
            <p:nvPr/>
          </p:nvPicPr>
          <p:blipFill>
            <a:blip r:embed="rId5"/>
            <a:stretch/>
          </p:blipFill>
          <p:spPr>
            <a:xfrm>
              <a:off x="1523880" y="4952880"/>
              <a:ext cx="457200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olasti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of Aristotle’s logic to Biblical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u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ught unity betwe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IG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A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mas Aquinas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umma Theologic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cal influences in law and modern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4920" y="4267080"/>
            <a:ext cx="8458200" cy="2590920"/>
            <a:chOff x="304920" y="4267080"/>
            <a:chExt cx="8458200" cy="2590920"/>
          </a:xfrm>
        </p:grpSpPr>
        <p:grpSp>
          <p:nvGrpSpPr>
            <p:cNvPr id="82" name=""/>
            <p:cNvGrpSpPr/>
            <p:nvPr/>
          </p:nvGrpSpPr>
          <p:grpSpPr>
            <a:xfrm>
              <a:off x="304920" y="4267080"/>
              <a:ext cx="1700280" cy="2590920"/>
              <a:chOff x="304920" y="4267080"/>
              <a:chExt cx="1700280" cy="2590920"/>
            </a:xfrm>
          </p:grpSpPr>
          <p:pic>
            <p:nvPicPr>
              <p:cNvPr id="83" name="" descr="File:St-thomas-aquinas.jpg"/>
              <p:cNvPicPr/>
              <p:nvPr/>
            </p:nvPicPr>
            <p:blipFill>
              <a:blip r:embed="rId1"/>
              <a:stretch/>
            </p:blipFill>
            <p:spPr>
              <a:xfrm>
                <a:off x="304920" y="4267080"/>
                <a:ext cx="1700280" cy="25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 txBox="1"/>
              <p:nvPr/>
            </p:nvSpPr>
            <p:spPr>
              <a:xfrm>
                <a:off x="381240" y="6172200"/>
                <a:ext cx="1600200" cy="685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homas Aquinas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353040" y="4419720"/>
              <a:ext cx="2342880" cy="2438280"/>
              <a:chOff x="3353040" y="4419720"/>
              <a:chExt cx="2342880" cy="2438280"/>
            </a:xfrm>
          </p:grpSpPr>
          <p:pic>
            <p:nvPicPr>
              <p:cNvPr id="86" name="" descr="File:AlbertusMagnus.jpg"/>
              <p:cNvPicPr/>
              <p:nvPr/>
            </p:nvPicPr>
            <p:blipFill>
              <a:blip r:embed="rId2"/>
              <a:stretch/>
            </p:blipFill>
            <p:spPr>
              <a:xfrm>
                <a:off x="3370320" y="4419720"/>
                <a:ext cx="2316240" cy="24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 txBox="1"/>
              <p:nvPr/>
            </p:nvSpPr>
            <p:spPr>
              <a:xfrm>
                <a:off x="3353040" y="6210360"/>
                <a:ext cx="234288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Albertus Magnus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400800" y="4519440"/>
              <a:ext cx="2362320" cy="2338560"/>
              <a:chOff x="6400800" y="4519440"/>
              <a:chExt cx="2362320" cy="2338560"/>
            </a:xfrm>
          </p:grpSpPr>
          <p:pic>
            <p:nvPicPr>
              <p:cNvPr id="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00800" y="4519440"/>
                <a:ext cx="2362320" cy="23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 txBox="1"/>
              <p:nvPr/>
            </p:nvSpPr>
            <p:spPr>
              <a:xfrm>
                <a:off x="6477120" y="6210360"/>
                <a:ext cx="228600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Roger Bacon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nacular Lite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te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Divine Comed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Itali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belais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rgantua &amp; Pantagru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Fr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vantes-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on Quixo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pan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424320"/>
            <a:ext cx="3214800" cy="3433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00600" y="3597120"/>
            <a:ext cx="43434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t matters n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anges in the Middle Ages laid the foundations for modern Europe and America in terms of trade, the capitalist economics, and colleges and univers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id guilds change the way business was conducted and products were ma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id increase trade affect serfs? Nobles? Mercha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were towns so influential in the social changes of the High Middle Ag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id the Crusades influence the expansion of learning in the Middle Ag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might most students in Medieval universities come from the merchant cla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ristotle’s Childr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benstein, Richard E.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istotle's Children: How Christians, Muslims, and Jews Rediscovered Ancient Wisdom and Illuminated the Dark A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1. Harvest Books , 200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86400" y="3505320"/>
            <a:ext cx="2233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nom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eudal system and manorial economy declined as agriculture, trade, finance, towns, and universities develo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rm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ree-field syst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ui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mercial Revol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urg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nacu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cholastics/scholastic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bn Rushd (Averro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bn Sina (Avicen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omas Aquin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ages 387-392:Use a diagram like the one below to identify changes in medieval soc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3"/>
          <p:cNvSpPr/>
          <p:nvPr/>
        </p:nvSpPr>
        <p:spPr>
          <a:xfrm>
            <a:off x="2971800" y="2819520"/>
            <a:ext cx="373392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nges in Medieval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ight Arrow Callout 4"/>
          <p:cNvSpPr/>
          <p:nvPr/>
        </p:nvSpPr>
        <p:spPr>
          <a:xfrm rot="895800">
            <a:off x="813960" y="1654200"/>
            <a:ext cx="2438640" cy="1905120"/>
          </a:xfrm>
          <a:prstGeom prst="rightArrowCallout">
            <a:avLst>
              <a:gd name="adj1" fmla="val 25002"/>
              <a:gd name="adj2" fmla="val 25000"/>
              <a:gd name="adj3" fmla="val 25002"/>
              <a:gd name="adj4" fmla="val 64977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owing Food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Right Arrow Callout 5" descr=""/>
          <p:cNvPicPr/>
          <p:nvPr/>
        </p:nvPicPr>
        <p:blipFill>
          <a:blip r:embed="rId1"/>
          <a:stretch/>
        </p:blipFill>
        <p:spPr>
          <a:xfrm>
            <a:off x="3565440" y="1047600"/>
            <a:ext cx="1940040" cy="1884600"/>
          </a:xfrm>
          <a:prstGeom prst="rect">
            <a:avLst/>
          </a:prstGeom>
          <a:ln w="0">
            <a:noFill/>
          </a:ln>
        </p:spPr>
      </p:pic>
      <p:sp>
        <p:nvSpPr>
          <p:cNvPr id="51" name="Right Arrow Callout 6"/>
          <p:cNvSpPr/>
          <p:nvPr/>
        </p:nvSpPr>
        <p:spPr>
          <a:xfrm rot="19999800">
            <a:off x="831960" y="3722400"/>
            <a:ext cx="2438280" cy="1904760"/>
          </a:xfrm>
          <a:prstGeom prst="right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vival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ight Arrow Callout 7"/>
          <p:cNvSpPr/>
          <p:nvPr/>
        </p:nvSpPr>
        <p:spPr>
          <a:xfrm rot="14190600">
            <a:off x="5581440" y="3790440"/>
            <a:ext cx="2438280" cy="190512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rban life Flouri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ight Arrow Callout 8" descr=""/>
          <p:cNvPicPr/>
          <p:nvPr/>
        </p:nvPicPr>
        <p:blipFill>
          <a:blip r:embed="rId2"/>
          <a:stretch/>
        </p:blipFill>
        <p:spPr>
          <a:xfrm>
            <a:off x="6218280" y="969840"/>
            <a:ext cx="26938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rowing Food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mer Cli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ru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sesh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se co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wheels/Windm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field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Field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-Field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ial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ey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 f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ct on busin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ct on manor/tow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process to become a master crafts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ps in a t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ttributes contributed to a family surname (last name) during the middle a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aft Gui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21:55:00Z</dcterms:created>
  <dc:creator> </dc:creator>
  <dc:description/>
  <dc:language>en-US</dc:language>
  <cp:lastModifiedBy>cpagliaro</cp:lastModifiedBy>
  <dcterms:modified xsi:type="dcterms:W3CDTF">2010-04-09T18:00:39Z</dcterms:modified>
  <cp:revision>10</cp:revision>
  <dc:subject/>
  <dc:title>Slide 1</dc:title>
</cp:coreProperties>
</file>